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3873-675B-4328-8161-E7E1253A7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5EC2-A42B-44B1-810A-13DD04043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9994-2632-445C-81C7-AC07EAE40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C59B-7264-4D9C-A13B-40C04C65F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F2A3-4C33-4379-8F17-E3C2E5522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ABA5-ACC1-4899-B045-3CE6C763A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1FCC-619E-40D7-93EF-EE3F804C4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7145-6146-4098-958F-5AB83D6B2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0A6B-4586-42B2-A7CF-E9691A943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0D07-4829-4D26-AFB3-AB470765D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E70B-7E7D-4999-86A3-8054644FD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B37B-65B6-45DF-A93D-A7D526661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2C6C2-67C1-4BA1-81E4-A5C7C9EA7D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youtube.com/watch?v=iRGZOCaD9sQ" TargetMode="External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0" y="1980720"/>
            <a:ext cx="4168800" cy="43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http://t2.gstatic.com/images?q=tbn:ANd9GcSmOZYYRX8_4IZzXOhcInjdCTzYK6GgRf93H61hrBIdkkUwWZGmhw"/>
          <p:cNvPicPr/>
          <p:nvPr/>
        </p:nvPicPr>
        <p:blipFill>
          <a:blip r:embed="rId1"/>
          <a:stretch/>
        </p:blipFill>
        <p:spPr>
          <a:xfrm>
            <a:off x="3505320" y="0"/>
            <a:ext cx="5659200" cy="3884760"/>
          </a:xfrm>
          <a:prstGeom prst="rect">
            <a:avLst/>
          </a:prstGeom>
          <a:ln w="0">
            <a:noFill/>
          </a:ln>
        </p:spPr>
      </p:pic>
      <p:sp>
        <p:nvSpPr>
          <p:cNvPr id="44" name="TextBox 6"/>
          <p:cNvSpPr/>
          <p:nvPr/>
        </p:nvSpPr>
        <p:spPr>
          <a:xfrm>
            <a:off x="0" y="0"/>
            <a:ext cx="3352680" cy="69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10/2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im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How did Sumerians use technology to transform Mesopotamia  into a “Garden of Eden” (and can we use technology to do the same today)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opic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Mesopotamia and Water Manag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o Now: Answer the three questions silently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ist three ways you use water on a daily basi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ist three ways you OBTAIN water for your daily us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peculat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: How would you obtain water if society ceased to exist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fter watching each video, write a one sentence summary/reactio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5"/>
          <p:cNvSpPr/>
          <p:nvPr/>
        </p:nvSpPr>
        <p:spPr>
          <a:xfrm>
            <a:off x="3505320" y="3884760"/>
            <a:ext cx="54864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http://www.youtube.com/watch?v=iRGZOCaD9sQ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(water crisi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https://www.youtube.com/watch?v=-766tdJXi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(California water crisi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http://www.youtube.com/watch?v=le4J_YgNL2A (China’s water problem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3505320" y="621180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www.youtube.com/watch?v=OMgJuYOCYJ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Ink 2" descr=""/>
          <p:cNvPicPr/>
          <p:nvPr/>
        </p:nvPicPr>
        <p:blipFill>
          <a:blip r:embed="rId3"/>
          <a:stretch/>
        </p:blipFill>
        <p:spPr>
          <a:xfrm>
            <a:off x="1533600" y="3581280"/>
            <a:ext cx="23760" cy="2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ttp://upload.wikimedia.org/wikipedia/commons/thumb/c/c6/Tuhala_Witches_Well2_21-03-2013.jpg/640px-Tuhala_Witches_Well2_21-03-2013.jpg"/>
          <p:cNvPicPr/>
          <p:nvPr/>
        </p:nvPicPr>
        <p:blipFill>
          <a:blip r:embed="rId1"/>
          <a:stretch/>
        </p:blipFill>
        <p:spPr>
          <a:xfrm>
            <a:off x="4572000" y="-42840"/>
            <a:ext cx="4572000" cy="6900840"/>
          </a:xfrm>
          <a:prstGeom prst="rect">
            <a:avLst/>
          </a:prstGeom>
          <a:ln w="0">
            <a:noFill/>
          </a:ln>
        </p:spPr>
      </p:pic>
      <p:sp>
        <p:nvSpPr>
          <p:cNvPr id="49" name="TextBox 2"/>
          <p:cNvSpPr/>
          <p:nvPr/>
        </p:nvSpPr>
        <p:spPr>
          <a:xfrm>
            <a:off x="152280" y="117360"/>
            <a:ext cx="419112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tch the very short video clip on how a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u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ork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element of civilization can the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uf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 categorized as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youtube.com/watch?v=i5X_jwnb-O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over the article an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swer each of the three questions ON HW #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!! (If you do not have #6, use a separate sheet of loose-leaf). Two sentences for each question AT LEAST! Clearly label HW#6 and today’s classwork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y-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can new ideas, current technology, and new inventions help solve the world’s water crises? Compose a one paragraph response NOW! You have seven minutes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on HW #6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"/>
          <p:cNvSpPr/>
          <p:nvPr/>
        </p:nvSpPr>
        <p:spPr>
          <a:xfrm>
            <a:off x="228600" y="304920"/>
            <a:ext cx="84582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W#6: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opotamia- read pages 5-top of page 9 from the textbook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swer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estions 1,2,3, and 4 on page 8 (based on the artifact)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sentences for each answe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so (#5) choose TWO people or groups of people (Sargon, Hammurabi, slaves, etc.) and TWO concepts (religion, government, mathematics, etc.)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ntify the person/persons and the concepts. Then explain why they interested you and why they are important (two sentences for each, eight total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1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W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écis-Mesopotam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précis summarizing what you learned about Mesopotamia and Sumer this week. Include an introduction, one body paragraph, and a conclusio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3"/>
          <p:cNvSpPr/>
          <p:nvPr/>
        </p:nvSpPr>
        <p:spPr>
          <a:xfrm>
            <a:off x="228600" y="228600"/>
            <a:ext cx="87631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estions for Today’s Film Clip: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opotamia-Return to Ed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tory of Noah’s Ark is similar to what ancient text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evidence does the film give to demonstrate Sumer’s role as the first civilization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cribe a Sumerian royal tomb and the funeral ceremony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there a historical basis for the Garden of Eden (Paradise)? Explai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ok for these questions and points while you watch today’s film clip. Be prepared to share your respons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W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écis-Mesopotam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précis summarizing what you learned about Mesopotamia and Sumer this week. Include an introduction, one body paragraph, and a conclusio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01T17:41:40Z</dcterms:created>
  <dc:creator>mweiler</dc:creator>
  <dc:description/>
  <dc:language>en-US</dc:language>
  <cp:lastModifiedBy>mweiler</cp:lastModifiedBy>
  <dcterms:modified xsi:type="dcterms:W3CDTF">2016-04-01T17:42:02Z</dcterms:modified>
  <cp:revision>1</cp:revision>
  <dc:subject/>
  <dc:title>Slide 1</dc:title>
</cp:coreProperties>
</file>